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A48-C62B-440D-A32A-057D383F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915-1AE1-4B64-B15B-FBB381C9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29E-46AA-40EE-986D-CF322406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2D1-262F-4A87-AF44-2FCB0CF4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8396-D007-4ACD-AB67-C5FC9C2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C91D-9350-4BE8-93E1-261D08DB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220-597B-4BE0-867C-CEF3AE69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69B-3693-4A32-BB3A-A89297CE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85D6-584B-4A90-8F1D-098FD42F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E7E-E4B7-4FAC-B7AF-EF92D980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4BF-C798-4466-94C2-56A437E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F14-A2CA-441A-80EF-F17FD84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304-EDA3-4540-92BF-B17EFA3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2E4A-C953-4E1F-AF40-A6D348A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AF2F-C30A-4842-895D-6BA9E5B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0A2-ED41-477D-A8B6-8266623A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B86-45CC-4D03-970F-18816A1C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51A-CCD1-4B05-8EBB-99EDF8F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41A-0919-4634-84D9-4222163C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182-57DB-4B36-922E-F4BD5F3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AEA-B95D-4C74-87BC-20BB531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2E4-E8BC-4233-9AE0-6F14FBA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71E-4FE2-4008-B838-238CA9B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A87-C327-4F6E-AB0F-C3CFA00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456F-3A72-4498-8363-D806C9396A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5DC-C7B1-4AE9-BD46-840EB917CA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Personal Learning Profile 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n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the left hemisphere of my brain is less dominate and the right hemisphere of my brain is dom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intelligence type is physical, computer smart, and technology that means that I’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oord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t 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mportant to how your brains works because so you can how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style is Abstract Sequential that means that I imagitive and neat and or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technique is how I learn the best that means that I learn by hearing and se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5:31Z</dcterms:created>
  <dc:creator>dornell frazier</dc:creator>
  <dc:description/>
  <dc:language>en-US</dc:language>
  <cp:lastModifiedBy>dornell frazier</cp:lastModifiedBy>
  <dcterms:modified xsi:type="dcterms:W3CDTF">2010-10-26T13:44:24Z</dcterms:modified>
  <cp:revision>4</cp:revision>
  <dc:subject/>
  <dc:title>My Personal Learning Profile by Dornell Frazier</dc:title>
</cp:coreProperties>
</file>